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00F-A55B-478E-A4CA-983A9058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5A19-0428-4693-8F8A-A5EFD244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178-41E6-4CCD-B908-4F7770D8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560-B217-4523-820A-4E7B409F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878-6C3D-4E38-957B-B8A34B77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0A1-7F15-436F-87E3-C7080D78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86A-CE8D-4F32-A71A-2A2336D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F25-081A-4C45-B9F8-4B0173C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5D7-2B97-4DC1-A239-B75E1792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B5D-6834-4E57-987A-5C68B204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3A5-34E4-4161-8D7B-C5D7A83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674-230C-405B-B851-CF102AA0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993A-E992-430B-B9D3-3EDDA3ACEF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5C004.jpg"/>
          <p:cNvPicPr/>
          <p:nvPr/>
        </p:nvPicPr>
        <p:blipFill>
          <a:blip r:embed="rId1"/>
          <a:stretch/>
        </p:blipFill>
        <p:spPr>
          <a:xfrm rot="1641000">
            <a:off x="6845400" y="4437000"/>
            <a:ext cx="1923840" cy="209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chap13\large\B075C002.jpg"/>
          <p:cNvPicPr/>
          <p:nvPr/>
        </p:nvPicPr>
        <p:blipFill>
          <a:blip r:embed="rId2"/>
          <a:stretch/>
        </p:blipFill>
        <p:spPr>
          <a:xfrm rot="1721400">
            <a:off x="5816520" y="126720"/>
            <a:ext cx="1657440" cy="44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chap13\large\B074C018.jpg"/>
          <p:cNvPicPr/>
          <p:nvPr/>
        </p:nvPicPr>
        <p:blipFill>
          <a:blip r:embed="rId3"/>
          <a:stretch/>
        </p:blipFill>
        <p:spPr>
          <a:xfrm rot="20887200">
            <a:off x="200160" y="3354120"/>
            <a:ext cx="2309760" cy="2185920"/>
          </a:xfrm>
          <a:prstGeom prst="rect">
            <a:avLst/>
          </a:prstGeom>
          <a:ln w="0">
            <a:noFill/>
          </a:ln>
        </p:spPr>
      </p:pic>
      <p:grpSp>
        <p:nvGrpSpPr>
          <p:cNvPr id="44" name="タイトル 1"/>
          <p:cNvGrpSpPr/>
          <p:nvPr/>
        </p:nvGrpSpPr>
        <p:grpSpPr>
          <a:xfrm>
            <a:off x="463680" y="1122480"/>
            <a:ext cx="8246880" cy="2101680"/>
            <a:chOff x="463680" y="1122480"/>
            <a:chExt cx="8246880" cy="2101680"/>
          </a:xfrm>
        </p:grpSpPr>
        <p:pic>
          <p:nvPicPr>
            <p:cNvPr id="45" name="タイトル 1" descr=""/>
            <p:cNvPicPr/>
            <p:nvPr/>
          </p:nvPicPr>
          <p:blipFill>
            <a:blip r:embed="rId4"/>
            <a:stretch/>
          </p:blipFill>
          <p:spPr>
            <a:xfrm>
              <a:off x="463680" y="1122480"/>
              <a:ext cx="8246880" cy="21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68360" y="1125360"/>
              <a:ext cx="822960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6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わたしはだれでしょう</a:t>
              </a:r>
              <a:br>
                <a:rPr sz="6000"/>
              </a:br>
              <a:r>
                <a:rPr b="0" lang="ja-JP" sz="4000" spc="-1" strike="noStrike">
                  <a:solidFill>
                    <a:srgbClr val="000000"/>
                  </a:solidFill>
                  <a:latin typeface="AR PＰＯＰ５H"/>
                  <a:ea typeface="AR PＰＯＰ５H"/>
                </a:rPr>
                <a:t>（野菜クイズ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3240">
            <a:solidFill>
              <a:srgbClr val="002060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問題例とイラスト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こげち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chap13\large\B074C029.jpg"/>
          <p:cNvPicPr/>
          <p:nvPr/>
        </p:nvPicPr>
        <p:blipFill>
          <a:blip r:embed="rId1"/>
          <a:stretch/>
        </p:blipFill>
        <p:spPr>
          <a:xfrm rot="2398200">
            <a:off x="4057560" y="-299880"/>
            <a:ext cx="1379520" cy="76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いみどり色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かやきいろ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chap13\large\B074C022.jpg"/>
          <p:cNvPicPr/>
          <p:nvPr/>
        </p:nvPicPr>
        <p:blipFill>
          <a:blip r:embed="rId1"/>
          <a:stretch/>
        </p:blipFill>
        <p:spPr>
          <a:xfrm>
            <a:off x="2556000" y="1125360"/>
            <a:ext cx="4010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71280" y="764640"/>
            <a:ext cx="7848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っかな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ミニ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ケチャップ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ねがつよくな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み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:\chap13\large\B074C018.jpg"/>
          <p:cNvPicPr/>
          <p:nvPr/>
        </p:nvPicPr>
        <p:blipFill>
          <a:blip r:embed="rId1"/>
          <a:stretch/>
        </p:blipFill>
        <p:spPr>
          <a:xfrm>
            <a:off x="1547640" y="981000"/>
            <a:ext cx="662940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ちゃいろの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なカサ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のこ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したのも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:\chap13\large\B075C019.jpg"/>
          <p:cNvPicPr/>
          <p:nvPr/>
        </p:nvPicPr>
        <p:blipFill>
          <a:blip r:embed="rId1"/>
          <a:stretch/>
        </p:blipFill>
        <p:spPr>
          <a:xfrm rot="8573400">
            <a:off x="2065320" y="671400"/>
            <a:ext cx="52084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「おでん」に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入って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chap13\large\B075C002.jpg"/>
          <p:cNvPicPr/>
          <p:nvPr/>
        </p:nvPicPr>
        <p:blipFill>
          <a:blip r:embed="rId1"/>
          <a:stretch/>
        </p:blipFill>
        <p:spPr>
          <a:xfrm rot="1451400">
            <a:off x="2727000" y="364680"/>
            <a:ext cx="316368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ひょうめんにイ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ほそながいやさ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わは、ちゃい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みだ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E:\chap13\large\B075C004.jpg"/>
          <p:cNvPicPr/>
          <p:nvPr/>
        </p:nvPicPr>
        <p:blipFill>
          <a:blip r:embed="rId1"/>
          <a:stretch/>
        </p:blipFill>
        <p:spPr>
          <a:xfrm>
            <a:off x="1908000" y="476280"/>
            <a:ext cx="547236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71640" y="549360"/>
            <a:ext cx="77263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ふゆに、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ビタミンＣ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っぷ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くだもの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E:\chap13\large\B076C006.jpg"/>
          <p:cNvPicPr/>
          <p:nvPr/>
        </p:nvPicPr>
        <p:blipFill>
          <a:blip r:embed="rId1"/>
          <a:stretch/>
        </p:blipFill>
        <p:spPr>
          <a:xfrm>
            <a:off x="1258920" y="1197000"/>
            <a:ext cx="689148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3640" y="76464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きみど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っぱがかさなっ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玉になって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E:\chap13\large\B074C026.jpg"/>
          <p:cNvPicPr/>
          <p:nvPr/>
        </p:nvPicPr>
        <p:blipFill>
          <a:blip r:embed="rId1"/>
          <a:stretch/>
        </p:blipFill>
        <p:spPr>
          <a:xfrm>
            <a:off x="1258920" y="620640"/>
            <a:ext cx="6514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むらさ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かは、し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つのやさいだ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トゲトゲのぼう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E:\chap13\large\B075C006.jpg"/>
          <p:cNvPicPr/>
          <p:nvPr/>
        </p:nvPicPr>
        <p:blipFill>
          <a:blip r:embed="rId1"/>
          <a:stretch/>
        </p:blipFill>
        <p:spPr>
          <a:xfrm rot="2236200">
            <a:off x="3301560" y="312840"/>
            <a:ext cx="28288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55640" y="765000"/>
            <a:ext cx="7942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はるに土の中か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あたまがで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大きくなると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竹に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E:\chap13\large\B075C003.jpg"/>
          <p:cNvPicPr/>
          <p:nvPr/>
        </p:nvPicPr>
        <p:blipFill>
          <a:blip r:embed="rId1"/>
          <a:stretch/>
        </p:blipFill>
        <p:spPr>
          <a:xfrm rot="3160800">
            <a:off x="2773080" y="975960"/>
            <a:ext cx="430380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chap13\large\B074C027.jpg"/>
          <p:cNvPicPr/>
          <p:nvPr/>
        </p:nvPicPr>
        <p:blipFill>
          <a:blip r:embed="rId1"/>
          <a:stretch/>
        </p:blipFill>
        <p:spPr>
          <a:xfrm rot="18694200">
            <a:off x="3453480" y="23040"/>
            <a:ext cx="253512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正方形/長方形 1"/>
          <p:cNvSpPr/>
          <p:nvPr/>
        </p:nvSpPr>
        <p:spPr>
          <a:xfrm>
            <a:off x="287280" y="90792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フリルのはっ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たくさ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かさなってい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冬においしくなる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chap13\large\B074C024.jpg"/>
          <p:cNvPicPr/>
          <p:nvPr/>
        </p:nvPicPr>
        <p:blipFill>
          <a:blip r:embed="rId1"/>
          <a:stretch/>
        </p:blipFill>
        <p:spPr>
          <a:xfrm rot="1049400">
            <a:off x="1645920" y="783720"/>
            <a:ext cx="5621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71280" y="765000"/>
            <a:ext cx="764388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いろは、オレン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うさぎが大す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をま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chap13\large\B074C019.jpg"/>
          <p:cNvPicPr/>
          <p:nvPr/>
        </p:nvPicPr>
        <p:blipFill>
          <a:blip r:embed="rId1"/>
          <a:stretch/>
        </p:blipFill>
        <p:spPr>
          <a:xfrm rot="1571400">
            <a:off x="3325320" y="239760"/>
            <a:ext cx="260532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ホクホクおいしい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なかのそうじを　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す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chap13\large\B075C014.jpg"/>
          <p:cNvPicPr/>
          <p:nvPr/>
        </p:nvPicPr>
        <p:blipFill>
          <a:blip r:embed="rId1"/>
          <a:stretch/>
        </p:blipFill>
        <p:spPr>
          <a:xfrm rot="2647200">
            <a:off x="2985840" y="-189000"/>
            <a:ext cx="3295440" cy="77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4000" y="765000"/>
            <a:ext cx="8135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土の中にい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しゃくがあ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ポテトチップスに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chap13\large\B075C016.jpg"/>
          <p:cNvPicPr/>
          <p:nvPr/>
        </p:nvPicPr>
        <p:blipFill>
          <a:blip r:embed="rId1"/>
          <a:stretch/>
        </p:blipFill>
        <p:spPr>
          <a:xfrm>
            <a:off x="1908000" y="765000"/>
            <a:ext cx="56181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1-31T23:59:04Z</dcterms:modified>
  <cp:revision>13</cp:revision>
  <dc:subject/>
  <dc:title>スライド 1</dc:title>
</cp:coreProperties>
</file>