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D517-CBDE-4D6F-9AF2-3189F68D3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D09C-9E7F-4764-8C05-84581985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FDFD-45CA-4CAB-A510-DB313FD1E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FD7D-6533-4821-9619-2369F6F77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12C8-462F-4B92-8C77-5F3D66E5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9CB9-81F2-4733-987F-ECA5E11D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606A-629C-454C-9A50-7BB75D27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33C8-0C32-468F-8BB1-1C8ACED4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BE6B-BC76-4178-BF1B-4D1349DA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DC3D-08F9-482D-988B-47CF2F4A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835C-5141-4110-BC1B-D6E4C8AE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F93F-34B8-42BC-8B98-854224B4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D22B-9E6A-477C-8AB6-9AE349BA3E6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E:\chap13\large\B075C004.jpg"/>
          <p:cNvPicPr/>
          <p:nvPr/>
        </p:nvPicPr>
        <p:blipFill>
          <a:blip r:embed="rId1"/>
          <a:stretch/>
        </p:blipFill>
        <p:spPr>
          <a:xfrm rot="1641000">
            <a:off x="6845400" y="4437000"/>
            <a:ext cx="1923840" cy="209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E:\chap13\large\B075C002.jpg"/>
          <p:cNvPicPr/>
          <p:nvPr/>
        </p:nvPicPr>
        <p:blipFill>
          <a:blip r:embed="rId2"/>
          <a:stretch/>
        </p:blipFill>
        <p:spPr>
          <a:xfrm rot="1721400">
            <a:off x="5816520" y="126720"/>
            <a:ext cx="1657440" cy="44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E:\chap13\large\B074C018.jpg"/>
          <p:cNvPicPr/>
          <p:nvPr/>
        </p:nvPicPr>
        <p:blipFill>
          <a:blip r:embed="rId3"/>
          <a:stretch/>
        </p:blipFill>
        <p:spPr>
          <a:xfrm rot="20887200">
            <a:off x="200160" y="3354120"/>
            <a:ext cx="2309760" cy="2185920"/>
          </a:xfrm>
          <a:prstGeom prst="rect">
            <a:avLst/>
          </a:prstGeom>
          <a:ln w="0">
            <a:noFill/>
          </a:ln>
        </p:spPr>
      </p:pic>
      <p:grpSp>
        <p:nvGrpSpPr>
          <p:cNvPr id="44" name="タイトル 1"/>
          <p:cNvGrpSpPr/>
          <p:nvPr/>
        </p:nvGrpSpPr>
        <p:grpSpPr>
          <a:xfrm>
            <a:off x="463680" y="1122480"/>
            <a:ext cx="8246880" cy="2101680"/>
            <a:chOff x="463680" y="1122480"/>
            <a:chExt cx="8246880" cy="2101680"/>
          </a:xfrm>
        </p:grpSpPr>
        <p:pic>
          <p:nvPicPr>
            <p:cNvPr id="45" name="タイトル 1" descr=""/>
            <p:cNvPicPr/>
            <p:nvPr/>
          </p:nvPicPr>
          <p:blipFill>
            <a:blip r:embed="rId4"/>
            <a:stretch/>
          </p:blipFill>
          <p:spPr>
            <a:xfrm>
              <a:off x="463680" y="1122480"/>
              <a:ext cx="8246880" cy="21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68360" y="1125360"/>
              <a:ext cx="8229600" cy="20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AR PＰＯＰ５H"/>
                  <a:ea typeface="AR PＰＯＰ５H"/>
                </a:rPr>
                <a:t>わたしはだれでしょう</a:t>
              </a:r>
              <a:br>
                <a:rPr sz="6000"/>
              </a:br>
              <a:r>
                <a:rPr b="0" lang="ja-JP" sz="4000" spc="-1" strike="noStrike">
                  <a:solidFill>
                    <a:srgbClr val="000000"/>
                  </a:solidFill>
                  <a:latin typeface="AR PＰＯＰ５H"/>
                  <a:ea typeface="AR PＰＯＰ５H"/>
                </a:rPr>
                <a:t>（野菜クイズ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 txBox="1"/>
          <p:nvPr/>
        </p:nvSpPr>
        <p:spPr>
          <a:xfrm>
            <a:off x="2339640" y="4220640"/>
            <a:ext cx="4824360" cy="158436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3240">
            <a:solidFill>
              <a:srgbClr val="002060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 PＰＯＰ５H"/>
                <a:ea typeface="AR PＰＯＰ５H"/>
              </a:rPr>
              <a:t>～問題例とイラスト～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4000" y="765000"/>
            <a:ext cx="813564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ほそながい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こげちゃ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かは、し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E:\chap13\large\B074C029.jpg"/>
          <p:cNvPicPr/>
          <p:nvPr/>
        </p:nvPicPr>
        <p:blipFill>
          <a:blip r:embed="rId1"/>
          <a:stretch/>
        </p:blipFill>
        <p:spPr>
          <a:xfrm rot="2398200">
            <a:off x="4057560" y="-299880"/>
            <a:ext cx="1379520" cy="76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4000" y="765000"/>
            <a:ext cx="813564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いみどり色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あかやきいろも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あ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やさい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E:\chap13\large\B074C022.jpg"/>
          <p:cNvPicPr/>
          <p:nvPr/>
        </p:nvPicPr>
        <p:blipFill>
          <a:blip r:embed="rId1"/>
          <a:stretch/>
        </p:blipFill>
        <p:spPr>
          <a:xfrm>
            <a:off x="2556000" y="1125360"/>
            <a:ext cx="401004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971280" y="764640"/>
            <a:ext cx="7848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まっかなやさい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ミニもあ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ケチャップに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ほねがつよくなる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のみもの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E:\chap13\large\B074C018.jpg"/>
          <p:cNvPicPr/>
          <p:nvPr/>
        </p:nvPicPr>
        <p:blipFill>
          <a:blip r:embed="rId1"/>
          <a:stretch/>
        </p:blipFill>
        <p:spPr>
          <a:xfrm>
            <a:off x="1547640" y="981000"/>
            <a:ext cx="662940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971640" y="549360"/>
            <a:ext cx="77263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ちゃいろの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大きなカサ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きのこ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ほしたのもあ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E:\chap13\large\B075C019.jpg"/>
          <p:cNvPicPr/>
          <p:nvPr/>
        </p:nvPicPr>
        <p:blipFill>
          <a:blip r:embed="rId1"/>
          <a:stretch/>
        </p:blipFill>
        <p:spPr>
          <a:xfrm rot="8573400">
            <a:off x="2065320" y="671400"/>
            <a:ext cx="5208480" cy="51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971640" y="549360"/>
            <a:ext cx="77263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「おでん」にも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入って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し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E:\chap13\large\B075C002.jpg"/>
          <p:cNvPicPr/>
          <p:nvPr/>
        </p:nvPicPr>
        <p:blipFill>
          <a:blip r:embed="rId1"/>
          <a:stretch/>
        </p:blipFill>
        <p:spPr>
          <a:xfrm rot="1451400">
            <a:off x="2727000" y="364680"/>
            <a:ext cx="3163680" cy="64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71280" y="765000"/>
            <a:ext cx="764388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みどり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かは、し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ひょうめんにイボ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ほそながいやさい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971640" y="549360"/>
            <a:ext cx="77263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かわは、ちゃい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かは、し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みだがで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E:\chap13\large\B075C004.jpg"/>
          <p:cNvPicPr/>
          <p:nvPr/>
        </p:nvPicPr>
        <p:blipFill>
          <a:blip r:embed="rId1"/>
          <a:stretch/>
        </p:blipFill>
        <p:spPr>
          <a:xfrm>
            <a:off x="1908000" y="476280"/>
            <a:ext cx="5472360" cy="59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971640" y="549360"/>
            <a:ext cx="77263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ふゆに、おいしい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ビタミンＣが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たっぷり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だもの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E:\chap13\large\B076C006.jpg"/>
          <p:cNvPicPr/>
          <p:nvPr/>
        </p:nvPicPr>
        <p:blipFill>
          <a:blip r:embed="rId1"/>
          <a:stretch/>
        </p:blipFill>
        <p:spPr>
          <a:xfrm>
            <a:off x="1258920" y="1197000"/>
            <a:ext cx="689148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23640" y="764640"/>
            <a:ext cx="85690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きみどり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はっぱがかさなっ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玉になって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やさい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E:\chap13\large\B074C026.jpg"/>
          <p:cNvPicPr/>
          <p:nvPr/>
        </p:nvPicPr>
        <p:blipFill>
          <a:blip r:embed="rId1"/>
          <a:stretch/>
        </p:blipFill>
        <p:spPr>
          <a:xfrm>
            <a:off x="1258920" y="620640"/>
            <a:ext cx="6514920" cy="58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68360" y="691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むらさ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かは、し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つのやさい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トゲトゲのぼうし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E:\chap13\large\B075C006.jpg"/>
          <p:cNvPicPr/>
          <p:nvPr/>
        </p:nvPicPr>
        <p:blipFill>
          <a:blip r:embed="rId1"/>
          <a:stretch/>
        </p:blipFill>
        <p:spPr>
          <a:xfrm rot="2236200">
            <a:off x="3301560" y="312840"/>
            <a:ext cx="28288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755640" y="765000"/>
            <a:ext cx="79423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はるに土の中から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あたまがで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大きくなると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竹にな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E:\chap13\large\B075C003.jpg"/>
          <p:cNvPicPr/>
          <p:nvPr/>
        </p:nvPicPr>
        <p:blipFill>
          <a:blip r:embed="rId1"/>
          <a:stretch/>
        </p:blipFill>
        <p:spPr>
          <a:xfrm rot="3160800">
            <a:off x="2773080" y="975960"/>
            <a:ext cx="430380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E:\chap13\large\B074C027.jpg"/>
          <p:cNvPicPr/>
          <p:nvPr/>
        </p:nvPicPr>
        <p:blipFill>
          <a:blip r:embed="rId1"/>
          <a:stretch/>
        </p:blipFill>
        <p:spPr>
          <a:xfrm rot="18694200">
            <a:off x="3453480" y="23040"/>
            <a:ext cx="2535120" cy="748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正方形/長方形 1"/>
          <p:cNvSpPr/>
          <p:nvPr/>
        </p:nvSpPr>
        <p:spPr>
          <a:xfrm>
            <a:off x="287280" y="907920"/>
            <a:ext cx="8821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リルのはっ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たくさん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かさなっている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冬においしくなる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E:\chap13\large\B074C024.jpg"/>
          <p:cNvPicPr/>
          <p:nvPr/>
        </p:nvPicPr>
        <p:blipFill>
          <a:blip r:embed="rId1"/>
          <a:stretch/>
        </p:blipFill>
        <p:spPr>
          <a:xfrm rot="1049400">
            <a:off x="1645920" y="783720"/>
            <a:ext cx="562140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71280" y="765000"/>
            <a:ext cx="764388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オレン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うさぎが大す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をまも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E:\chap13\large\B074C019.jpg"/>
          <p:cNvPicPr/>
          <p:nvPr/>
        </p:nvPicPr>
        <p:blipFill>
          <a:blip r:embed="rId1"/>
          <a:stretch/>
        </p:blipFill>
        <p:spPr>
          <a:xfrm rot="1571400">
            <a:off x="3325320" y="239760"/>
            <a:ext cx="2605320" cy="65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4000" y="765000"/>
            <a:ext cx="813564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ホクホクおいしい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おなかのそうじを　　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す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E:\chap13\large\B075C014.jpg"/>
          <p:cNvPicPr/>
          <p:nvPr/>
        </p:nvPicPr>
        <p:blipFill>
          <a:blip r:embed="rId1"/>
          <a:stretch/>
        </p:blipFill>
        <p:spPr>
          <a:xfrm rot="2647200">
            <a:off x="2985840" y="-189000"/>
            <a:ext cx="3295440" cy="77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4000" y="765000"/>
            <a:ext cx="813564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男しゃくがあ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ポテトチップスに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E:\chap13\large\B075C016.jpg"/>
          <p:cNvPicPr/>
          <p:nvPr/>
        </p:nvPicPr>
        <p:blipFill>
          <a:blip r:embed="rId1"/>
          <a:stretch/>
        </p:blipFill>
        <p:spPr>
          <a:xfrm>
            <a:off x="1908000" y="765000"/>
            <a:ext cx="56181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1T02:10:03Z</dcterms:created>
  <dc:creator>kameda-keiko-1</dc:creator>
  <dc:description/>
  <dc:language>en-US</dc:language>
  <cp:lastModifiedBy>kameda-keiko-1</cp:lastModifiedBy>
  <dcterms:modified xsi:type="dcterms:W3CDTF">2013-01-31T23:59:04Z</dcterms:modified>
  <cp:revision>13</cp:revision>
  <dc:subject/>
  <dc:title>スライド 1</dc:title>
</cp:coreProperties>
</file>