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D7F-B97B-41F0-835D-634B3471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079D-8B3B-42D3-A7FA-0C627ECE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2ED9-9AC8-44A5-AF89-5E11872F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84E0-43EF-4E41-BF58-112779D7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DF50-E10E-4138-8005-3E36726B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46E-9023-4E56-B23A-980EAA30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9FD0-EFAE-45CA-B8E3-8DBF0FB7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FE27-9A9E-4948-A470-6F631D46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D27F-EC04-4D3D-86B6-F250BA89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E755-04A4-40BF-B8F1-3D2A8722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FF0F-7557-4A8C-9678-E6902227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F6D-353E-4020-8823-23E6720E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F348-8050-48C4-9127-CAC5533A2D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chap13\large\B074C024.jpg"/>
          <p:cNvPicPr/>
          <p:nvPr/>
        </p:nvPicPr>
        <p:blipFill>
          <a:blip r:embed="rId1"/>
          <a:stretch/>
        </p:blipFill>
        <p:spPr>
          <a:xfrm>
            <a:off x="324000" y="3213000"/>
            <a:ext cx="1871640" cy="223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E:\chap13\large\B076C006.jpg"/>
          <p:cNvPicPr/>
          <p:nvPr/>
        </p:nvPicPr>
        <p:blipFill>
          <a:blip r:embed="rId2"/>
          <a:stretch/>
        </p:blipFill>
        <p:spPr>
          <a:xfrm rot="20109000">
            <a:off x="4556160" y="5032440"/>
            <a:ext cx="1755720" cy="13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E:\chap13\large\B074C029.jpg"/>
          <p:cNvPicPr/>
          <p:nvPr/>
        </p:nvPicPr>
        <p:blipFill>
          <a:blip r:embed="rId3"/>
          <a:stretch/>
        </p:blipFill>
        <p:spPr>
          <a:xfrm rot="2290200">
            <a:off x="6352920" y="36000"/>
            <a:ext cx="799920" cy="441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わたしはだれでしょう</a:t>
            </a:r>
            <a:br>
              <a:rPr sz="6000"/>
            </a:br>
            <a:r>
              <a:rPr b="0" lang="ja-JP" sz="40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（野菜クイズ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39640" y="4220640"/>
            <a:ext cx="4824360" cy="1584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～使い方と作り方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正方形/長方形 26"/>
          <p:cNvSpPr/>
          <p:nvPr/>
        </p:nvSpPr>
        <p:spPr>
          <a:xfrm rot="5400000">
            <a:off x="5903280" y="1591920"/>
            <a:ext cx="2376720" cy="1008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正方形/長方形 25"/>
          <p:cNvSpPr/>
          <p:nvPr/>
        </p:nvSpPr>
        <p:spPr>
          <a:xfrm rot="5400000">
            <a:off x="4787280" y="1555560"/>
            <a:ext cx="2376720" cy="108108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正方形/長方形 55"/>
          <p:cNvSpPr/>
          <p:nvPr/>
        </p:nvSpPr>
        <p:spPr>
          <a:xfrm rot="5400000">
            <a:off x="5327280" y="1088640"/>
            <a:ext cx="2376360" cy="1871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正方形/長方形 51"/>
          <p:cNvSpPr/>
          <p:nvPr/>
        </p:nvSpPr>
        <p:spPr>
          <a:xfrm rot="5400000">
            <a:off x="6227280" y="18864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正方形/長方形 52"/>
          <p:cNvSpPr/>
          <p:nvPr/>
        </p:nvSpPr>
        <p:spPr>
          <a:xfrm rot="5400000">
            <a:off x="6227280" y="133956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線コネクタ 54"/>
          <p:cNvSpPr/>
          <p:nvPr/>
        </p:nvSpPr>
        <p:spPr>
          <a:xfrm flipV="1">
            <a:off x="6515280" y="836280"/>
            <a:ext cx="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正方形/長方形 58"/>
          <p:cNvSpPr/>
          <p:nvPr/>
        </p:nvSpPr>
        <p:spPr>
          <a:xfrm>
            <a:off x="6515280" y="2563920"/>
            <a:ext cx="936360" cy="649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正方形/長方形 60"/>
          <p:cNvSpPr/>
          <p:nvPr/>
        </p:nvSpPr>
        <p:spPr>
          <a:xfrm>
            <a:off x="5580000" y="1987560"/>
            <a:ext cx="93528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正方形/長方形 61"/>
          <p:cNvSpPr/>
          <p:nvPr/>
        </p:nvSpPr>
        <p:spPr>
          <a:xfrm>
            <a:off x="5580000" y="836640"/>
            <a:ext cx="93528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正方形/長方形 62"/>
          <p:cNvSpPr/>
          <p:nvPr/>
        </p:nvSpPr>
        <p:spPr>
          <a:xfrm>
            <a:off x="6515280" y="1413000"/>
            <a:ext cx="936360" cy="5745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正方形/長方形 20"/>
          <p:cNvSpPr/>
          <p:nvPr/>
        </p:nvSpPr>
        <p:spPr>
          <a:xfrm>
            <a:off x="4932360" y="1916280"/>
            <a:ext cx="360360" cy="237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正方形/長方形 21"/>
          <p:cNvSpPr/>
          <p:nvPr/>
        </p:nvSpPr>
        <p:spPr>
          <a:xfrm>
            <a:off x="7740720" y="1916280"/>
            <a:ext cx="360360" cy="23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正方形/長方形 23"/>
          <p:cNvSpPr/>
          <p:nvPr/>
        </p:nvSpPr>
        <p:spPr>
          <a:xfrm>
            <a:off x="5435640" y="5013360"/>
            <a:ext cx="2449440" cy="1079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手でもつ部分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補強をしておく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使いやすい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直線矢印コネクタ 33"/>
          <p:cNvCxnSpPr/>
          <p:nvPr/>
        </p:nvCxnSpPr>
        <p:spPr>
          <a:xfrm>
            <a:off x="5003280" y="169992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1" name="直線矢印コネクタ 35"/>
          <p:cNvCxnSpPr/>
          <p:nvPr/>
        </p:nvCxnSpPr>
        <p:spPr>
          <a:xfrm flipH="1">
            <a:off x="7666920" y="177300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pic>
        <p:nvPicPr>
          <p:cNvPr id="162" name="図 17" descr="10.jpg"/>
          <p:cNvPicPr/>
          <p:nvPr/>
        </p:nvPicPr>
        <p:blipFill>
          <a:blip r:embed="rId3"/>
          <a:stretch/>
        </p:blipFill>
        <p:spPr>
          <a:xfrm>
            <a:off x="539640" y="765000"/>
            <a:ext cx="32623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仕組みが分かりました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図 2" descr="11-1.jpg"/>
          <p:cNvPicPr/>
          <p:nvPr/>
        </p:nvPicPr>
        <p:blipFill>
          <a:blip r:embed="rId1"/>
          <a:stretch/>
        </p:blipFill>
        <p:spPr>
          <a:xfrm>
            <a:off x="539640" y="2421000"/>
            <a:ext cx="3168720" cy="2376360"/>
          </a:xfrm>
          <a:prstGeom prst="rect">
            <a:avLst/>
          </a:prstGeom>
          <a:ln w="0">
            <a:noFill/>
          </a:ln>
        </p:spPr>
      </p:pic>
      <p:sp>
        <p:nvSpPr>
          <p:cNvPr id="165" name="上矢印吹き出し 4"/>
          <p:cNvSpPr/>
          <p:nvPr/>
        </p:nvSpPr>
        <p:spPr>
          <a:xfrm>
            <a:off x="971640" y="4869000"/>
            <a:ext cx="2016000" cy="1366560"/>
          </a:xfrm>
          <a:prstGeom prst="upArrowCallout">
            <a:avLst>
              <a:gd name="adj1" fmla="val 14877"/>
              <a:gd name="adj2" fmla="val 25004"/>
              <a:gd name="adj3" fmla="val 25000"/>
              <a:gd name="adj4" fmla="val 70041"/>
            </a:avLst>
          </a:prstGeom>
          <a:solidFill>
            <a:srgbClr val="c6d9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裏側から見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様子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図 6" descr="11-2.jpg"/>
          <p:cNvPicPr/>
          <p:nvPr/>
        </p:nvPicPr>
        <p:blipFill>
          <a:blip r:embed="rId2"/>
          <a:stretch/>
        </p:blipFill>
        <p:spPr>
          <a:xfrm>
            <a:off x="3924360" y="2060640"/>
            <a:ext cx="46735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閉じたところに問題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開いたところに答えを貼りましょう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。</a:t>
            </a:r>
            <a:br>
              <a:rPr sz="4400"/>
            </a:b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わたしはだれでしょう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野菜クイズ）に，問題例とイラストがあります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図 2" descr="12-1.jpg"/>
          <p:cNvPicPr/>
          <p:nvPr/>
        </p:nvPicPr>
        <p:blipFill>
          <a:blip r:embed="rId1"/>
          <a:stretch/>
        </p:blipFill>
        <p:spPr>
          <a:xfrm>
            <a:off x="395280" y="3213000"/>
            <a:ext cx="2521080" cy="3311640"/>
          </a:xfrm>
          <a:prstGeom prst="rect">
            <a:avLst/>
          </a:prstGeom>
          <a:ln w="0">
            <a:noFill/>
          </a:ln>
        </p:spPr>
      </p:pic>
      <p:pic>
        <p:nvPicPr>
          <p:cNvPr id="169" name="図 3" descr="12-2.jpg"/>
          <p:cNvPicPr/>
          <p:nvPr/>
        </p:nvPicPr>
        <p:blipFill>
          <a:blip r:embed="rId2"/>
          <a:stretch/>
        </p:blipFill>
        <p:spPr>
          <a:xfrm>
            <a:off x="4713120" y="3284640"/>
            <a:ext cx="4129200" cy="3240000"/>
          </a:xfrm>
          <a:prstGeom prst="rect">
            <a:avLst/>
          </a:prstGeom>
          <a:ln w="0">
            <a:noFill/>
          </a:ln>
        </p:spPr>
      </p:pic>
      <p:sp>
        <p:nvSpPr>
          <p:cNvPr id="170" name="正方形/長方形 4"/>
          <p:cNvSpPr/>
          <p:nvPr/>
        </p:nvSpPr>
        <p:spPr>
          <a:xfrm>
            <a:off x="2843280" y="4005360"/>
            <a:ext cx="2520720" cy="1871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閉じた状態の面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問題を分割して貼り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開いた状態の面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答えを分割して貼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図 6" descr="12-1.jpg"/>
          <p:cNvPicPr/>
          <p:nvPr/>
        </p:nvPicPr>
        <p:blipFill>
          <a:blip r:embed="rId1"/>
          <a:stretch/>
        </p:blipFill>
        <p:spPr>
          <a:xfrm>
            <a:off x="324000" y="260280"/>
            <a:ext cx="2592360" cy="3343320"/>
          </a:xfrm>
          <a:prstGeom prst="rect">
            <a:avLst/>
          </a:prstGeom>
          <a:ln w="0">
            <a:noFill/>
          </a:ln>
        </p:spPr>
      </p:pic>
      <p:pic>
        <p:nvPicPr>
          <p:cNvPr id="172" name="図 7" descr="12-2.jpg"/>
          <p:cNvPicPr/>
          <p:nvPr/>
        </p:nvPicPr>
        <p:blipFill>
          <a:blip r:embed="rId2"/>
          <a:stretch/>
        </p:blipFill>
        <p:spPr>
          <a:xfrm>
            <a:off x="5148360" y="692280"/>
            <a:ext cx="3646440" cy="2735280"/>
          </a:xfrm>
          <a:prstGeom prst="rect">
            <a:avLst/>
          </a:prstGeom>
          <a:ln w="0">
            <a:noFill/>
          </a:ln>
        </p:spPr>
      </p:pic>
      <p:sp>
        <p:nvSpPr>
          <p:cNvPr id="173" name="ストライプ矢印 8"/>
          <p:cNvSpPr/>
          <p:nvPr/>
        </p:nvSpPr>
        <p:spPr>
          <a:xfrm>
            <a:off x="2771640" y="1484280"/>
            <a:ext cx="2880000" cy="100800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下の紙を左右に広げる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図 9" descr="13-1.jpg"/>
          <p:cNvPicPr/>
          <p:nvPr/>
        </p:nvPicPr>
        <p:blipFill>
          <a:blip r:embed="rId3"/>
          <a:stretch/>
        </p:blipFill>
        <p:spPr>
          <a:xfrm>
            <a:off x="4500720" y="4149720"/>
            <a:ext cx="3240000" cy="2428920"/>
          </a:xfrm>
          <a:prstGeom prst="rect">
            <a:avLst/>
          </a:prstGeom>
          <a:ln w="0">
            <a:noFill/>
          </a:ln>
        </p:spPr>
      </p:pic>
      <p:sp>
        <p:nvSpPr>
          <p:cNvPr id="175" name="左矢印 12"/>
          <p:cNvSpPr/>
          <p:nvPr/>
        </p:nvSpPr>
        <p:spPr>
          <a:xfrm rot="10800000">
            <a:off x="3492360" y="5373360"/>
            <a:ext cx="2673360" cy="43164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正方形/長方形 13"/>
          <p:cNvSpPr/>
          <p:nvPr/>
        </p:nvSpPr>
        <p:spPr>
          <a:xfrm>
            <a:off x="826920" y="4797360"/>
            <a:ext cx="2521080" cy="16560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ここを左右に開く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元の形にな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コンテンツ プレースホルダ 3" descr="CIMG0888.JPG"/>
          <p:cNvPicPr/>
          <p:nvPr/>
        </p:nvPicPr>
        <p:blipFill>
          <a:blip r:embed="rId1"/>
          <a:stretch/>
        </p:blipFill>
        <p:spPr>
          <a:xfrm>
            <a:off x="468360" y="3068640"/>
            <a:ext cx="4363920" cy="3273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仕組みが分かりました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いろいろな問題を作って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楽しんでくださ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タイトル 1"/>
          <p:cNvSpPr/>
          <p:nvPr/>
        </p:nvSpPr>
        <p:spPr>
          <a:xfrm>
            <a:off x="5364000" y="4292640"/>
            <a:ext cx="2953080" cy="15746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本資料は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2007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学校給食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9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参考に作成しま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図 2" descr="１問題.jpg"/>
          <p:cNvPicPr/>
          <p:nvPr/>
        </p:nvPicPr>
        <p:blipFill>
          <a:blip r:embed="rId1"/>
          <a:stretch/>
        </p:blipFill>
        <p:spPr>
          <a:xfrm>
            <a:off x="611280" y="1989000"/>
            <a:ext cx="5957640" cy="4467240"/>
          </a:xfrm>
          <a:prstGeom prst="rect">
            <a:avLst/>
          </a:prstGeom>
          <a:ln w="0">
            <a:noFill/>
          </a:ln>
        </p:spPr>
      </p:pic>
      <p:sp>
        <p:nvSpPr>
          <p:cNvPr id="47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野菜クイズをします。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5" descr="２展開１.jpg"/>
          <p:cNvPicPr/>
          <p:nvPr/>
        </p:nvPicPr>
        <p:blipFill>
          <a:blip r:embed="rId1"/>
          <a:stretch/>
        </p:blipFill>
        <p:spPr>
          <a:xfrm>
            <a:off x="755640" y="1974960"/>
            <a:ext cx="5832360" cy="4373280"/>
          </a:xfrm>
          <a:prstGeom prst="rect">
            <a:avLst/>
          </a:prstGeom>
          <a:ln w="0">
            <a:noFill/>
          </a:ln>
        </p:spPr>
      </p:pic>
      <p:sp>
        <p:nvSpPr>
          <p:cNvPr id="51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124875"/>
              <a:gd name="adj2" fmla="val 36425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この野菜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何でしょう。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5" descr="３展開２.jpg"/>
          <p:cNvPicPr/>
          <p:nvPr/>
        </p:nvPicPr>
        <p:blipFill>
          <a:blip r:embed="rId1"/>
          <a:stretch/>
        </p:blipFill>
        <p:spPr>
          <a:xfrm>
            <a:off x="684360" y="1776240"/>
            <a:ext cx="6119640" cy="4591080"/>
          </a:xfrm>
          <a:prstGeom prst="rect">
            <a:avLst/>
          </a:prstGeom>
          <a:ln w="0">
            <a:noFill/>
          </a:ln>
        </p:spPr>
      </p:pic>
      <p:sp>
        <p:nvSpPr>
          <p:cNvPr id="54" name="雲形吹き出し 3"/>
          <p:cNvSpPr/>
          <p:nvPr/>
        </p:nvSpPr>
        <p:spPr>
          <a:xfrm>
            <a:off x="5724360" y="692280"/>
            <a:ext cx="309564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みなさ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わかりましたか</a:t>
            </a:r>
            <a:r>
              <a:rPr b="0" lang="en-US" sz="2000" spc="-1" strike="noStrike">
                <a:solidFill>
                  <a:srgbClr val="10253f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図 5" descr="４解答.jpg"/>
          <p:cNvPicPr/>
          <p:nvPr/>
        </p:nvPicPr>
        <p:blipFill>
          <a:blip r:embed="rId1"/>
          <a:stretch/>
        </p:blipFill>
        <p:spPr>
          <a:xfrm>
            <a:off x="684360" y="2136600"/>
            <a:ext cx="5688000" cy="4265640"/>
          </a:xfrm>
          <a:prstGeom prst="rect">
            <a:avLst/>
          </a:prstGeom>
          <a:ln w="0">
            <a:noFill/>
          </a:ln>
        </p:spPr>
      </p:pic>
      <p:sp>
        <p:nvSpPr>
          <p:cNvPr id="57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こたえは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トマト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正方形/長方形 3"/>
          <p:cNvSpPr/>
          <p:nvPr/>
        </p:nvSpPr>
        <p:spPr>
          <a:xfrm rot="5400000">
            <a:off x="-109080" y="1053000"/>
            <a:ext cx="3313080" cy="2447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4"/>
          <p:cNvSpPr/>
          <p:nvPr/>
        </p:nvSpPr>
        <p:spPr>
          <a:xfrm rot="5400000">
            <a:off x="2482920" y="1053000"/>
            <a:ext cx="3313080" cy="2447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方形/長方形 6"/>
          <p:cNvSpPr/>
          <p:nvPr/>
        </p:nvSpPr>
        <p:spPr>
          <a:xfrm>
            <a:off x="7667640" y="620640"/>
            <a:ext cx="129708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円弧 17"/>
          <p:cNvSpPr/>
          <p:nvPr/>
        </p:nvSpPr>
        <p:spPr>
          <a:xfrm rot="5400000">
            <a:off x="1347480" y="2763720"/>
            <a:ext cx="459000" cy="2363760"/>
          </a:xfrm>
          <a:custGeom>
            <a:avLst/>
            <a:gdLst>
              <a:gd name="textAreaLeft" fmla="*/ 158760 w 459000"/>
              <a:gd name="textAreaRight" fmla="*/ 459360 w 459000"/>
              <a:gd name="textAreaTop" fmla="*/ 0 h 2363760"/>
              <a:gd name="textAreaBottom" fmla="*/ 2364120 h 2363760"/>
            </a:gdLst>
            <a:ahLst/>
            <a:rect l="textAreaLeft" t="textAreaTop" r="textAreaRight" b="textAreaBottom"/>
            <a:pathLst>
              <a:path stroke="0" w="458787" h="2363787">
                <a:moveTo>
                  <a:pt x="229395" y="0"/>
                </a:moveTo>
                <a:lnTo>
                  <a:pt x="229395" y="0"/>
                </a:lnTo>
                <a:arcTo wR="229394" hR="1181894" stAng="-5399997" swAng="11015344"/>
                <a:lnTo>
                  <a:pt x="229394" y="1181894"/>
                </a:lnTo>
                <a:close/>
              </a:path>
              <a:path fill="none" w="458787" h="2363787">
                <a:moveTo>
                  <a:pt x="229395" y="0"/>
                </a:moveTo>
                <a:lnTo>
                  <a:pt x="229395" y="0"/>
                </a:lnTo>
                <a:arcTo wR="229394" hR="1181894" stAng="-5399997" swAng="11015344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円弧 21"/>
          <p:cNvSpPr/>
          <p:nvPr/>
        </p:nvSpPr>
        <p:spPr>
          <a:xfrm>
            <a:off x="5076720" y="620640"/>
            <a:ext cx="677880" cy="3240000"/>
          </a:xfrm>
          <a:custGeom>
            <a:avLst/>
            <a:gdLst>
              <a:gd name="textAreaLeft" fmla="*/ 302760 w 677880"/>
              <a:gd name="textAreaRight" fmla="*/ 678240 w 67788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stroke="0" w="677863" h="3240087">
                <a:moveTo>
                  <a:pt x="338933" y="0"/>
                </a:moveTo>
                <a:lnTo>
                  <a:pt x="338933" y="0"/>
                </a:lnTo>
                <a:arcTo wR="338932" hR="1620044" stAng="-5399996" swAng="10876821"/>
                <a:lnTo>
                  <a:pt x="338932" y="1620044"/>
                </a:lnTo>
                <a:close/>
              </a:path>
              <a:path fill="none" w="677863" h="3240087">
                <a:moveTo>
                  <a:pt x="338933" y="0"/>
                </a:moveTo>
                <a:lnTo>
                  <a:pt x="338933" y="0"/>
                </a:lnTo>
                <a:arcTo wR="338932" hR="1620044" stAng="-5399996" swAng="10876821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22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23"/>
          <p:cNvSpPr/>
          <p:nvPr/>
        </p:nvSpPr>
        <p:spPr>
          <a:xfrm>
            <a:off x="3059280" y="4437000"/>
            <a:ext cx="3384360" cy="2104920"/>
          </a:xfrm>
          <a:prstGeom prst="rect">
            <a:avLst/>
          </a:prstGeom>
          <a:solidFill>
            <a:srgbClr val="db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用意する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１つの野菜クイズに対して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最厚　模造姿　ホワ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判　四つ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㎜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㎜　３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わかりやすいように色を変えてい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実際は同じ色で作ります。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24"/>
          <p:cNvSpPr/>
          <p:nvPr/>
        </p:nvSpPr>
        <p:spPr>
          <a:xfrm>
            <a:off x="1258920" y="4221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12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25"/>
          <p:cNvSpPr/>
          <p:nvPr/>
        </p:nvSpPr>
        <p:spPr>
          <a:xfrm>
            <a:off x="5364000" y="20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4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円弧 26"/>
          <p:cNvSpPr/>
          <p:nvPr/>
        </p:nvSpPr>
        <p:spPr>
          <a:xfrm rot="10800000">
            <a:off x="6084720" y="549360"/>
            <a:ext cx="533520" cy="3311280"/>
          </a:xfrm>
          <a:custGeom>
            <a:avLst/>
            <a:gdLst>
              <a:gd name="textAreaLeft" fmla="*/ 210600 w 533520"/>
              <a:gd name="textAreaRight" fmla="*/ 533880 w 533520"/>
              <a:gd name="textAreaTop" fmla="*/ 0 h 3311280"/>
              <a:gd name="textAreaBottom" fmla="*/ 3311640 h 3311280"/>
            </a:gdLst>
            <a:ahLst/>
            <a:rect l="textAreaLeft" t="textAreaTop" r="textAreaRight" b="textAreaBottom"/>
            <a:pathLst>
              <a:path stroke="0" w="533400" h="3311525">
                <a:moveTo>
                  <a:pt x="266702" y="0"/>
                </a:moveTo>
                <a:lnTo>
                  <a:pt x="266702" y="0"/>
                </a:lnTo>
                <a:arcTo wR="266700" hR="1655763" stAng="-5399996" swAng="10919335"/>
                <a:lnTo>
                  <a:pt x="266700" y="1655763"/>
                </a:lnTo>
                <a:close/>
              </a:path>
              <a:path fill="none" w="533400" h="3311525">
                <a:moveTo>
                  <a:pt x="266702" y="0"/>
                </a:moveTo>
                <a:lnTo>
                  <a:pt x="266702" y="0"/>
                </a:lnTo>
                <a:arcTo wR="266700" hR="1655763" stAng="-5399996" swAng="10919335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円弧 27"/>
          <p:cNvSpPr/>
          <p:nvPr/>
        </p:nvSpPr>
        <p:spPr>
          <a:xfrm rot="5400000">
            <a:off x="6840000" y="3392280"/>
            <a:ext cx="216000" cy="1152360"/>
          </a:xfrm>
          <a:custGeom>
            <a:avLst/>
            <a:gdLst>
              <a:gd name="textAreaLeft" fmla="*/ 73800 w 216000"/>
              <a:gd name="textAreaRight" fmla="*/ 216360 w 21600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stroke="0" w="215900" h="1152525">
                <a:moveTo>
                  <a:pt x="107951" y="0"/>
                </a:moveTo>
                <a:lnTo>
                  <a:pt x="107951" y="0"/>
                </a:lnTo>
                <a:arcTo wR="107950" hR="576263" stAng="-5399994" swAng="11015340"/>
                <a:lnTo>
                  <a:pt x="107950" y="576263"/>
                </a:lnTo>
                <a:close/>
              </a:path>
              <a:path fill="none" w="215900" h="1152525">
                <a:moveTo>
                  <a:pt x="107951" y="0"/>
                </a:moveTo>
                <a:lnTo>
                  <a:pt x="107951" y="0"/>
                </a:lnTo>
                <a:arcTo wR="107950" hR="576263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円弧 28"/>
          <p:cNvSpPr/>
          <p:nvPr/>
        </p:nvSpPr>
        <p:spPr>
          <a:xfrm rot="5400000">
            <a:off x="8100000" y="3356640"/>
            <a:ext cx="360360" cy="1225440"/>
          </a:xfrm>
          <a:custGeom>
            <a:avLst/>
            <a:gdLst>
              <a:gd name="textAreaLeft" fmla="*/ 142560 w 360360"/>
              <a:gd name="textAreaRight" fmla="*/ 360720 w 36036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stroke="0" w="360362" h="1225550">
                <a:moveTo>
                  <a:pt x="180182" y="0"/>
                </a:moveTo>
                <a:lnTo>
                  <a:pt x="180182" y="0"/>
                </a:lnTo>
                <a:arcTo wR="180181" hR="612775" stAng="-5399994" swAng="11015336"/>
                <a:lnTo>
                  <a:pt x="180181" y="612775"/>
                </a:lnTo>
                <a:close/>
              </a:path>
              <a:path fill="none" w="360362" h="1225550">
                <a:moveTo>
                  <a:pt x="180182" y="0"/>
                </a:moveTo>
                <a:lnTo>
                  <a:pt x="180182" y="0"/>
                </a:lnTo>
                <a:arcTo wR="180181" hR="612775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29"/>
          <p:cNvSpPr/>
          <p:nvPr/>
        </p:nvSpPr>
        <p:spPr>
          <a:xfrm>
            <a:off x="6443640" y="4076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55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30"/>
          <p:cNvSpPr/>
          <p:nvPr/>
        </p:nvSpPr>
        <p:spPr>
          <a:xfrm>
            <a:off x="7740720" y="4076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55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上矢印吹き出し 32"/>
          <p:cNvSpPr/>
          <p:nvPr/>
        </p:nvSpPr>
        <p:spPr>
          <a:xfrm>
            <a:off x="6732720" y="4365720"/>
            <a:ext cx="2016000" cy="1295280"/>
          </a:xfrm>
          <a:prstGeom prst="upArrowCallout">
            <a:avLst>
              <a:gd name="adj1" fmla="val 25006"/>
              <a:gd name="adj2" fmla="val 25004"/>
              <a:gd name="adj3" fmla="val 25000"/>
              <a:gd name="adj4" fmla="val 70041"/>
            </a:avLst>
          </a:prstGeom>
          <a:solidFill>
            <a:srgbClr val="93c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縦２分の１よ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㎜狭く切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正方形/長方形 33"/>
          <p:cNvSpPr/>
          <p:nvPr/>
        </p:nvSpPr>
        <p:spPr>
          <a:xfrm>
            <a:off x="6300720" y="620640"/>
            <a:ext cx="129564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正方形/長方形 3"/>
          <p:cNvSpPr/>
          <p:nvPr/>
        </p:nvSpPr>
        <p:spPr>
          <a:xfrm rot="5400000">
            <a:off x="71280" y="1088640"/>
            <a:ext cx="3313080" cy="237672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正方形/長方形 4"/>
          <p:cNvSpPr/>
          <p:nvPr/>
        </p:nvSpPr>
        <p:spPr>
          <a:xfrm rot="5400000">
            <a:off x="2447280" y="1088640"/>
            <a:ext cx="3313080" cy="2376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正方形/長方形 5"/>
          <p:cNvSpPr/>
          <p:nvPr/>
        </p:nvSpPr>
        <p:spPr>
          <a:xfrm>
            <a:off x="7812000" y="692280"/>
            <a:ext cx="115272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正方形/長方形 6"/>
          <p:cNvSpPr/>
          <p:nvPr/>
        </p:nvSpPr>
        <p:spPr>
          <a:xfrm>
            <a:off x="6588000" y="692280"/>
            <a:ext cx="115272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線コネクタ 9"/>
          <p:cNvSpPr/>
          <p:nvPr/>
        </p:nvSpPr>
        <p:spPr>
          <a:xfrm flipH="1" flipV="1">
            <a:off x="172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円弧 17"/>
          <p:cNvSpPr/>
          <p:nvPr/>
        </p:nvSpPr>
        <p:spPr>
          <a:xfrm rot="5400000">
            <a:off x="837720" y="3476520"/>
            <a:ext cx="554040" cy="1128600"/>
          </a:xfrm>
          <a:custGeom>
            <a:avLst/>
            <a:gdLst>
              <a:gd name="textAreaLeft" fmla="*/ 241920 w 554040"/>
              <a:gd name="textAreaRight" fmla="*/ 554400 w 55404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stroke="0" w="554037" h="1128712">
                <a:moveTo>
                  <a:pt x="277019" y="0"/>
                </a:moveTo>
                <a:lnTo>
                  <a:pt x="277019" y="0"/>
                </a:lnTo>
                <a:arcTo wR="277019" hR="564356" stAng="-5399994" swAng="11015340"/>
                <a:lnTo>
                  <a:pt x="277019" y="564356"/>
                </a:lnTo>
                <a:close/>
              </a:path>
              <a:path fill="none" w="554037" h="1128712">
                <a:moveTo>
                  <a:pt x="277019" y="0"/>
                </a:moveTo>
                <a:lnTo>
                  <a:pt x="277019" y="0"/>
                </a:lnTo>
                <a:arcTo wR="277019" hR="564356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円弧 18"/>
          <p:cNvSpPr/>
          <p:nvPr/>
        </p:nvSpPr>
        <p:spPr>
          <a:xfrm rot="5400000">
            <a:off x="2050200" y="3429720"/>
            <a:ext cx="555840" cy="1128960"/>
          </a:xfrm>
          <a:custGeom>
            <a:avLst/>
            <a:gdLst>
              <a:gd name="textAreaLeft" fmla="*/ 242640 w 555840"/>
              <a:gd name="textAreaRight" fmla="*/ 556200 w 555840"/>
              <a:gd name="textAreaTop" fmla="*/ 0 h 1128960"/>
              <a:gd name="textAreaBottom" fmla="*/ 1129320 h 1128960"/>
            </a:gdLst>
            <a:ahLst/>
            <a:rect l="textAreaLeft" t="textAreaTop" r="textAreaRight" b="textAreaBottom"/>
            <a:pathLst>
              <a:path stroke="0" w="555625" h="1128712">
                <a:moveTo>
                  <a:pt x="277813" y="0"/>
                </a:moveTo>
                <a:lnTo>
                  <a:pt x="277813" y="0"/>
                </a:lnTo>
                <a:arcTo wR="277813" hR="564356" stAng="-5399994" swAng="11015336"/>
                <a:lnTo>
                  <a:pt x="277813" y="564356"/>
                </a:lnTo>
                <a:close/>
              </a:path>
              <a:path fill="none" w="555625" h="1128712">
                <a:moveTo>
                  <a:pt x="277813" y="0"/>
                </a:moveTo>
                <a:lnTo>
                  <a:pt x="277813" y="0"/>
                </a:lnTo>
                <a:arcTo wR="277813" hR="564356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円弧 20"/>
          <p:cNvSpPr/>
          <p:nvPr/>
        </p:nvSpPr>
        <p:spPr>
          <a:xfrm rot="5400000">
            <a:off x="3201840" y="3359160"/>
            <a:ext cx="555480" cy="1127160"/>
          </a:xfrm>
          <a:custGeom>
            <a:avLst/>
            <a:gdLst>
              <a:gd name="textAreaLeft" fmla="*/ 242640 w 555480"/>
              <a:gd name="textAreaRight" fmla="*/ 555840 w 55548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stroke="0" w="555625" h="1127125">
                <a:moveTo>
                  <a:pt x="277813" y="0"/>
                </a:moveTo>
                <a:lnTo>
                  <a:pt x="277813" y="0"/>
                </a:lnTo>
                <a:arcTo wR="277813" hR="563563" stAng="-5399994" swAng="11015340"/>
                <a:lnTo>
                  <a:pt x="277813" y="563563"/>
                </a:lnTo>
                <a:close/>
              </a:path>
              <a:path fill="none" w="555625" h="1127125">
                <a:moveTo>
                  <a:pt x="277813" y="0"/>
                </a:moveTo>
                <a:lnTo>
                  <a:pt x="277813" y="0"/>
                </a:lnTo>
                <a:arcTo wR="277813" hR="563563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円弧 21"/>
          <p:cNvSpPr/>
          <p:nvPr/>
        </p:nvSpPr>
        <p:spPr>
          <a:xfrm rot="5400000">
            <a:off x="4426200" y="3429720"/>
            <a:ext cx="555840" cy="1128600"/>
          </a:xfrm>
          <a:custGeom>
            <a:avLst/>
            <a:gdLst>
              <a:gd name="textAreaLeft" fmla="*/ 242640 w 555840"/>
              <a:gd name="textAreaRight" fmla="*/ 556200 w 55584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stroke="0" w="555625" h="1128713">
                <a:moveTo>
                  <a:pt x="277813" y="0"/>
                </a:moveTo>
                <a:lnTo>
                  <a:pt x="277813" y="0"/>
                </a:lnTo>
                <a:arcTo wR="277813" hR="564357" stAng="-5399994" swAng="11015336"/>
                <a:lnTo>
                  <a:pt x="277813" y="564357"/>
                </a:lnTo>
                <a:close/>
              </a:path>
              <a:path fill="none" w="555625" h="1128713">
                <a:moveTo>
                  <a:pt x="277813" y="0"/>
                </a:moveTo>
                <a:lnTo>
                  <a:pt x="277813" y="0"/>
                </a:lnTo>
                <a:arcTo wR="277813" hR="564357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線コネクタ 15"/>
          <p:cNvSpPr/>
          <p:nvPr/>
        </p:nvSpPr>
        <p:spPr>
          <a:xfrm flipH="1" flipV="1">
            <a:off x="406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上矢印吹き出し 16"/>
          <p:cNvSpPr/>
          <p:nvPr/>
        </p:nvSpPr>
        <p:spPr>
          <a:xfrm>
            <a:off x="1908000" y="4149720"/>
            <a:ext cx="2016360" cy="1511280"/>
          </a:xfrm>
          <a:prstGeom prst="upArrowCallout">
            <a:avLst>
              <a:gd name="adj1" fmla="val 14875"/>
              <a:gd name="adj2" fmla="val 25004"/>
              <a:gd name="adj3" fmla="val 25000"/>
              <a:gd name="adj4" fmla="val 70041"/>
            </a:avLst>
          </a:prstGeom>
          <a:solidFill>
            <a:srgbClr val="c6d9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セロテープ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貼り合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線コネクタ 23"/>
          <p:cNvSpPr/>
          <p:nvPr/>
        </p:nvSpPr>
        <p:spPr>
          <a:xfrm>
            <a:off x="1763640" y="2349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線コネクタ 24"/>
          <p:cNvSpPr/>
          <p:nvPr/>
        </p:nvSpPr>
        <p:spPr>
          <a:xfrm>
            <a:off x="1763640" y="14842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線コネクタ 25"/>
          <p:cNvSpPr/>
          <p:nvPr/>
        </p:nvSpPr>
        <p:spPr>
          <a:xfrm>
            <a:off x="1692360" y="3141720"/>
            <a:ext cx="237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円弧 30"/>
          <p:cNvSpPr/>
          <p:nvPr/>
        </p:nvSpPr>
        <p:spPr>
          <a:xfrm>
            <a:off x="5076720" y="620640"/>
            <a:ext cx="574920" cy="792360"/>
          </a:xfrm>
          <a:custGeom>
            <a:avLst/>
            <a:gdLst>
              <a:gd name="textAreaLeft" fmla="*/ 287640 w 574920"/>
              <a:gd name="textAreaRight" fmla="*/ 575280 w 57492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  <a:lnTo>
                  <a:pt x="287338" y="396081"/>
                </a:lnTo>
                <a:close/>
              </a:path>
              <a:path fill="none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円弧 31"/>
          <p:cNvSpPr/>
          <p:nvPr/>
        </p:nvSpPr>
        <p:spPr>
          <a:xfrm>
            <a:off x="5003640" y="1484280"/>
            <a:ext cx="576360" cy="79236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  <a:lnTo>
                  <a:pt x="288132" y="396081"/>
                </a:lnTo>
                <a:close/>
              </a:path>
              <a:path fill="none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円弧 32"/>
          <p:cNvSpPr/>
          <p:nvPr/>
        </p:nvSpPr>
        <p:spPr>
          <a:xfrm>
            <a:off x="5003640" y="2349360"/>
            <a:ext cx="648000" cy="792360"/>
          </a:xfrm>
          <a:custGeom>
            <a:avLst/>
            <a:gdLst>
              <a:gd name="textAreaLeft" fmla="*/ 324000 w 648000"/>
              <a:gd name="textAreaRight" fmla="*/ 648360 w 64800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  <a:lnTo>
                  <a:pt x="323850" y="396082"/>
                </a:lnTo>
                <a:close/>
              </a:path>
              <a:path fill="none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円弧 33"/>
          <p:cNvSpPr/>
          <p:nvPr/>
        </p:nvSpPr>
        <p:spPr>
          <a:xfrm>
            <a:off x="5076720" y="3141720"/>
            <a:ext cx="503280" cy="79200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792000"/>
              <a:gd name="textAreaBottom" fmla="*/ 791640 h 792000"/>
            </a:gdLst>
            <a:ahLst/>
            <a:rect l="textAreaLeft" t="textAreaTop" r="textAreaRight" b="textAreaBottom"/>
            <a:pathLst>
              <a:path stroke="0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  <a:lnTo>
                  <a:pt x="251619" y="396081"/>
                </a:lnTo>
                <a:close/>
              </a:path>
              <a:path fill="none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34"/>
          <p:cNvSpPr/>
          <p:nvPr/>
        </p:nvSpPr>
        <p:spPr>
          <a:xfrm>
            <a:off x="5076720" y="83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テキスト ボックス 35"/>
          <p:cNvSpPr/>
          <p:nvPr/>
        </p:nvSpPr>
        <p:spPr>
          <a:xfrm>
            <a:off x="5076720" y="184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36"/>
          <p:cNvSpPr/>
          <p:nvPr/>
        </p:nvSpPr>
        <p:spPr>
          <a:xfrm>
            <a:off x="507672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37"/>
          <p:cNvSpPr/>
          <p:nvPr/>
        </p:nvSpPr>
        <p:spPr>
          <a:xfrm>
            <a:off x="5076720" y="342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正方形/長方形 43"/>
          <p:cNvSpPr/>
          <p:nvPr/>
        </p:nvSpPr>
        <p:spPr>
          <a:xfrm>
            <a:off x="4572000" y="5084640"/>
            <a:ext cx="2160720" cy="12970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赤線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 カッター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切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直線矢印コネクタ 48"/>
          <p:cNvCxnSpPr/>
          <p:nvPr/>
        </p:nvCxnSpPr>
        <p:spPr>
          <a:xfrm flipH="1" flipV="1">
            <a:off x="3563280" y="1557000"/>
            <a:ext cx="1872360" cy="352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直線矢印コネクタ 49"/>
          <p:cNvCxnSpPr/>
          <p:nvPr/>
        </p:nvCxnSpPr>
        <p:spPr>
          <a:xfrm flipH="1" flipV="1">
            <a:off x="3563640" y="2276280"/>
            <a:ext cx="1729440" cy="28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直線矢印コネクタ 50"/>
          <p:cNvCxnSpPr/>
          <p:nvPr/>
        </p:nvCxnSpPr>
        <p:spPr>
          <a:xfrm flipH="1" flipV="1">
            <a:off x="3634560" y="3067920"/>
            <a:ext cx="1801080" cy="208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正方形/長方形 3"/>
          <p:cNvSpPr/>
          <p:nvPr/>
        </p:nvSpPr>
        <p:spPr>
          <a:xfrm rot="5400000">
            <a:off x="71280" y="1088640"/>
            <a:ext cx="3313080" cy="237672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正方形/長方形 4"/>
          <p:cNvSpPr/>
          <p:nvPr/>
        </p:nvSpPr>
        <p:spPr>
          <a:xfrm rot="5400000">
            <a:off x="2447280" y="1088640"/>
            <a:ext cx="3313080" cy="2376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線コネクタ 9"/>
          <p:cNvSpPr/>
          <p:nvPr/>
        </p:nvSpPr>
        <p:spPr>
          <a:xfrm flipH="1" flipV="1">
            <a:off x="172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線コネクタ 15"/>
          <p:cNvSpPr/>
          <p:nvPr/>
        </p:nvSpPr>
        <p:spPr>
          <a:xfrm flipH="1" flipV="1">
            <a:off x="406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線コネクタ 23"/>
          <p:cNvSpPr/>
          <p:nvPr/>
        </p:nvSpPr>
        <p:spPr>
          <a:xfrm>
            <a:off x="1763640" y="2349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線コネクタ 24"/>
          <p:cNvSpPr/>
          <p:nvPr/>
        </p:nvSpPr>
        <p:spPr>
          <a:xfrm>
            <a:off x="1763640" y="14842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線コネクタ 25"/>
          <p:cNvSpPr/>
          <p:nvPr/>
        </p:nvSpPr>
        <p:spPr>
          <a:xfrm>
            <a:off x="1692360" y="3141720"/>
            <a:ext cx="237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円弧 30"/>
          <p:cNvSpPr/>
          <p:nvPr/>
        </p:nvSpPr>
        <p:spPr>
          <a:xfrm>
            <a:off x="5076720" y="620640"/>
            <a:ext cx="574920" cy="792360"/>
          </a:xfrm>
          <a:custGeom>
            <a:avLst/>
            <a:gdLst>
              <a:gd name="textAreaLeft" fmla="*/ 287640 w 574920"/>
              <a:gd name="textAreaRight" fmla="*/ 575280 w 57492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  <a:lnTo>
                  <a:pt x="287338" y="396081"/>
                </a:lnTo>
                <a:close/>
              </a:path>
              <a:path fill="none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円弧 31"/>
          <p:cNvSpPr/>
          <p:nvPr/>
        </p:nvSpPr>
        <p:spPr>
          <a:xfrm>
            <a:off x="5003640" y="1484280"/>
            <a:ext cx="576360" cy="79236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  <a:lnTo>
                  <a:pt x="288132" y="396081"/>
                </a:lnTo>
                <a:close/>
              </a:path>
              <a:path fill="none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円弧 32"/>
          <p:cNvSpPr/>
          <p:nvPr/>
        </p:nvSpPr>
        <p:spPr>
          <a:xfrm>
            <a:off x="5003640" y="2349360"/>
            <a:ext cx="648000" cy="792360"/>
          </a:xfrm>
          <a:custGeom>
            <a:avLst/>
            <a:gdLst>
              <a:gd name="textAreaLeft" fmla="*/ 324000 w 648000"/>
              <a:gd name="textAreaRight" fmla="*/ 648360 w 64800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  <a:lnTo>
                  <a:pt x="323850" y="396082"/>
                </a:lnTo>
                <a:close/>
              </a:path>
              <a:path fill="none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円弧 33"/>
          <p:cNvSpPr/>
          <p:nvPr/>
        </p:nvSpPr>
        <p:spPr>
          <a:xfrm>
            <a:off x="5076720" y="3141720"/>
            <a:ext cx="503280" cy="79200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792000"/>
              <a:gd name="textAreaBottom" fmla="*/ 791640 h 792000"/>
            </a:gdLst>
            <a:ahLst/>
            <a:rect l="textAreaLeft" t="textAreaTop" r="textAreaRight" b="textAreaBottom"/>
            <a:pathLst>
              <a:path stroke="0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  <a:lnTo>
                  <a:pt x="251619" y="396081"/>
                </a:lnTo>
                <a:close/>
              </a:path>
              <a:path fill="none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34"/>
          <p:cNvSpPr/>
          <p:nvPr/>
        </p:nvSpPr>
        <p:spPr>
          <a:xfrm>
            <a:off x="5076720" y="83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5"/>
          <p:cNvSpPr/>
          <p:nvPr/>
        </p:nvSpPr>
        <p:spPr>
          <a:xfrm>
            <a:off x="5076720" y="184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テキスト ボックス 36"/>
          <p:cNvSpPr/>
          <p:nvPr/>
        </p:nvSpPr>
        <p:spPr>
          <a:xfrm>
            <a:off x="507672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37"/>
          <p:cNvSpPr/>
          <p:nvPr/>
        </p:nvSpPr>
        <p:spPr>
          <a:xfrm>
            <a:off x="5076720" y="342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直線矢印コネクタ 29"/>
          <p:cNvCxnSpPr/>
          <p:nvPr/>
        </p:nvCxnSpPr>
        <p:spPr>
          <a:xfrm flipH="1" flipV="1">
            <a:off x="1762920" y="4004640"/>
            <a:ext cx="972360" cy="64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直線矢印コネクタ 39"/>
          <p:cNvCxnSpPr/>
          <p:nvPr/>
        </p:nvCxnSpPr>
        <p:spPr>
          <a:xfrm flipV="1">
            <a:off x="2842920" y="4004640"/>
            <a:ext cx="1261080" cy="64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正方形/長方形 44"/>
          <p:cNvSpPr/>
          <p:nvPr/>
        </p:nvSpPr>
        <p:spPr>
          <a:xfrm>
            <a:off x="1763640" y="4797360"/>
            <a:ext cx="2160720" cy="9352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点線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 あわ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正方形/長方形 46"/>
          <p:cNvSpPr/>
          <p:nvPr/>
        </p:nvSpPr>
        <p:spPr>
          <a:xfrm rot="5400000">
            <a:off x="6731640" y="4365000"/>
            <a:ext cx="2376720" cy="180000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正方形/長方形 47"/>
          <p:cNvSpPr/>
          <p:nvPr/>
        </p:nvSpPr>
        <p:spPr>
          <a:xfrm rot="5400000">
            <a:off x="7631640" y="5265000"/>
            <a:ext cx="576360" cy="18000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正方形/長方形 53"/>
          <p:cNvSpPr/>
          <p:nvPr/>
        </p:nvSpPr>
        <p:spPr>
          <a:xfrm rot="5400000">
            <a:off x="7596000" y="4076640"/>
            <a:ext cx="647640" cy="18000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ストライプ矢印 59"/>
          <p:cNvSpPr/>
          <p:nvPr/>
        </p:nvSpPr>
        <p:spPr>
          <a:xfrm>
            <a:off x="4284720" y="4869000"/>
            <a:ext cx="2590920" cy="115236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交互に折る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線コネクタ 63"/>
          <p:cNvSpPr/>
          <p:nvPr/>
        </p:nvSpPr>
        <p:spPr>
          <a:xfrm flipV="1">
            <a:off x="7920000" y="4076640"/>
            <a:ext cx="0" cy="237672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図 26" descr="8.jpg"/>
          <p:cNvPicPr/>
          <p:nvPr/>
        </p:nvPicPr>
        <p:blipFill>
          <a:blip r:embed="rId1"/>
          <a:stretch/>
        </p:blipFill>
        <p:spPr>
          <a:xfrm>
            <a:off x="6516720" y="1413000"/>
            <a:ext cx="236844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正方形/長方形 55"/>
          <p:cNvSpPr/>
          <p:nvPr/>
        </p:nvSpPr>
        <p:spPr>
          <a:xfrm rot="5400000">
            <a:off x="6263640" y="1017360"/>
            <a:ext cx="2376720" cy="1871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正方形/長方形 44"/>
          <p:cNvSpPr/>
          <p:nvPr/>
        </p:nvSpPr>
        <p:spPr>
          <a:xfrm>
            <a:off x="3276720" y="4149720"/>
            <a:ext cx="2447640" cy="1079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半分の幅の紙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差し込み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正方形/長方形 46"/>
          <p:cNvSpPr/>
          <p:nvPr/>
        </p:nvSpPr>
        <p:spPr>
          <a:xfrm rot="5400000">
            <a:off x="791280" y="943560"/>
            <a:ext cx="2376360" cy="18734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正方形/長方形 47"/>
          <p:cNvSpPr/>
          <p:nvPr/>
        </p:nvSpPr>
        <p:spPr>
          <a:xfrm rot="5400000">
            <a:off x="1691280" y="1843560"/>
            <a:ext cx="576360" cy="18734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正方形/長方形 53"/>
          <p:cNvSpPr/>
          <p:nvPr/>
        </p:nvSpPr>
        <p:spPr>
          <a:xfrm rot="5400000">
            <a:off x="1691280" y="619560"/>
            <a:ext cx="576360" cy="18734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線コネクタ 63"/>
          <p:cNvSpPr/>
          <p:nvPr/>
        </p:nvSpPr>
        <p:spPr>
          <a:xfrm flipV="1">
            <a:off x="1979640" y="691920"/>
            <a:ext cx="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正方形/長方形 27"/>
          <p:cNvSpPr/>
          <p:nvPr/>
        </p:nvSpPr>
        <p:spPr>
          <a:xfrm>
            <a:off x="1042920" y="3141720"/>
            <a:ext cx="865080" cy="22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正方形/長方形 42"/>
          <p:cNvSpPr/>
          <p:nvPr/>
        </p:nvSpPr>
        <p:spPr>
          <a:xfrm>
            <a:off x="2050920" y="3141720"/>
            <a:ext cx="865440" cy="22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直線矢印コネクタ 45"/>
          <p:cNvCxnSpPr/>
          <p:nvPr/>
        </p:nvCxnSpPr>
        <p:spPr>
          <a:xfrm flipV="1">
            <a:off x="1476000" y="2781000"/>
            <a:ext cx="108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6" name="直線矢印コネクタ 49"/>
          <p:cNvCxnSpPr/>
          <p:nvPr/>
        </p:nvCxnSpPr>
        <p:spPr>
          <a:xfrm flipV="1">
            <a:off x="2410920" y="2781000"/>
            <a:ext cx="108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7" name="正方形/長方形 51"/>
          <p:cNvSpPr/>
          <p:nvPr/>
        </p:nvSpPr>
        <p:spPr>
          <a:xfrm rot="5400000">
            <a:off x="7164000" y="11700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正方形/長方形 52"/>
          <p:cNvSpPr/>
          <p:nvPr/>
        </p:nvSpPr>
        <p:spPr>
          <a:xfrm rot="5400000">
            <a:off x="7164000" y="1268280"/>
            <a:ext cx="57600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正方形/長方形 58"/>
          <p:cNvSpPr/>
          <p:nvPr/>
        </p:nvSpPr>
        <p:spPr>
          <a:xfrm>
            <a:off x="7451640" y="2492280"/>
            <a:ext cx="936720" cy="649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正方形/長方形 60"/>
          <p:cNvSpPr/>
          <p:nvPr/>
        </p:nvSpPr>
        <p:spPr>
          <a:xfrm>
            <a:off x="6516720" y="1916280"/>
            <a:ext cx="934920" cy="576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正方形/長方形 61"/>
          <p:cNvSpPr/>
          <p:nvPr/>
        </p:nvSpPr>
        <p:spPr>
          <a:xfrm>
            <a:off x="6516720" y="765000"/>
            <a:ext cx="93492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正方形/長方形 62"/>
          <p:cNvSpPr/>
          <p:nvPr/>
        </p:nvSpPr>
        <p:spPr>
          <a:xfrm>
            <a:off x="7451640" y="1341360"/>
            <a:ext cx="936720" cy="5749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ストライプ矢印 64"/>
          <p:cNvSpPr/>
          <p:nvPr/>
        </p:nvSpPr>
        <p:spPr>
          <a:xfrm>
            <a:off x="3419640" y="1773360"/>
            <a:ext cx="2879640" cy="79056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図 25" descr="9.jpg"/>
          <p:cNvPicPr/>
          <p:nvPr/>
        </p:nvPicPr>
        <p:blipFill>
          <a:blip r:embed="rId1"/>
          <a:stretch/>
        </p:blipFill>
        <p:spPr>
          <a:xfrm>
            <a:off x="6227640" y="3573360"/>
            <a:ext cx="2232000" cy="2884680"/>
          </a:xfrm>
          <a:prstGeom prst="rect">
            <a:avLst/>
          </a:prstGeom>
          <a:ln w="0">
            <a:noFill/>
          </a:ln>
        </p:spPr>
      </p:pic>
      <p:sp>
        <p:nvSpPr>
          <p:cNvPr id="145" name="直線コネクタ 54"/>
          <p:cNvSpPr/>
          <p:nvPr/>
        </p:nvSpPr>
        <p:spPr>
          <a:xfrm flipV="1">
            <a:off x="7451640" y="691920"/>
            <a:ext cx="180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02:10:03Z</dcterms:created>
  <dc:creator>kameda-keiko-1</dc:creator>
  <dc:description/>
  <dc:language>en-US</dc:language>
  <cp:lastModifiedBy>kameda-keiko-1</cp:lastModifiedBy>
  <dcterms:modified xsi:type="dcterms:W3CDTF">2013-02-12T04:16:10Z</dcterms:modified>
  <cp:revision>24</cp:revision>
  <dc:subject/>
  <dc:title>スライド 1</dc:title>
</cp:coreProperties>
</file>